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B4D-9ED8-450F-B33B-290276A4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AC1-0842-402D-A2DA-759048AD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5EA-DE20-47A5-A500-4EFB80EC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802-B4EB-41EC-9A78-80608423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D0A-1C17-43FD-9AB5-1AF6DA4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4B8-6304-40F4-BF45-CC43886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2D9-4FAF-42DB-A392-EAFCB9B2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4A5-B112-40C3-9AB3-BEE6FA2C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BC9-E194-40E7-82EF-ECED76F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BE2-8F55-40DD-9C4B-6149E03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1BA-471A-4BF9-A606-24B3DA2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BD7-306F-4DA8-8F19-0178E46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35D-FB83-41EB-B444-ED75F70A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p.GreenwichMeanTime.com/images/europe/germany.jpg"/>
          <p:cNvPicPr/>
          <p:nvPr/>
        </p:nvPicPr>
        <p:blipFill>
          <a:blip r:embed="rId1"/>
          <a:stretch/>
        </p:blipFill>
        <p:spPr>
          <a:xfrm>
            <a:off x="0" y="1835280"/>
            <a:ext cx="6400800" cy="502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nach Deutsch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o Ne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ucte das Rathaus gegenuber der Kir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n ich besucte die Kirche neben die market pl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1523880"/>
          <a:ext cx="7238880" cy="45928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n von Ausgeb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gticket und 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7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3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er 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4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hin fahren wir im Urlau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gehen nach Berlin. Wir fahren mit dem Flugze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nach Berlin von Chicago mit dem Flugze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von Flughaufe zum Hotel mit dem bu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Bleiben in Nhow Berlin. Ich bleibe fur seiben nach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Nhow hat eine sauna und einen pool es also hat einen Fernsehra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0" t="12500" r="43751" b="66407"/>
          <a:stretch/>
        </p:blipFill>
        <p:spPr>
          <a:xfrm>
            <a:off x="990720" y="236232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5magazine.files.wordpress.com/2010/12/nhow_hotel_berlin_1.jpg"/>
          <p:cNvPicPr/>
          <p:nvPr/>
        </p:nvPicPr>
        <p:blipFill>
          <a:blip r:embed="rId2"/>
          <a:stretch/>
        </p:blipFill>
        <p:spPr>
          <a:xfrm>
            <a:off x="2133720" y="4257720"/>
            <a:ext cx="4543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europe-trips.eu/Germany/Berlin-Germany.jpg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ichtige die Berlin Maur neben den flu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n mit der UBahn nach die Stad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ichtige Museumsinsel neben den metzgere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3:33Z</dcterms:created>
  <dc:creator>CUSD220</dc:creator>
  <dc:description/>
  <dc:language>en-US</dc:language>
  <cp:lastModifiedBy>Owner</cp:lastModifiedBy>
  <dcterms:modified xsi:type="dcterms:W3CDTF">2012-01-09T02:29:23Z</dcterms:modified>
  <cp:revision>9</cp:revision>
  <dc:subject/>
  <dc:title>Slide 1</dc:title>
</cp:coreProperties>
</file>